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54B8-CA25-4799-81D3-14BA253EA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99EA-8F44-4074-ABA1-91E229610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F916-BEFC-4186-9F76-5C818CE45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8233-837B-45B6-A86F-0F99B051D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663-534C-466B-9F04-8508820422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E66-DCAE-4578-BAC4-E7E2E1237C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DAE-F450-4555-A9B5-4FFEDCFF5C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4521-DEA8-4293-8AB4-99A2E1B21B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8D7D-00E9-4DD3-BE71-F8F5E4BC6B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485E-CBC9-4259-8D23-65F6401A54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509-D6B5-48B1-AFC1-38FC3DC215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D1D2-E59B-4D82-915D-57A40D717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D28F-89C2-48B7-976D-E46C5A5A98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B6B3-54C4-40C6-BB3D-1FCF11D08F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5DE6-770D-4DA6-9067-2E0C431F81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0662-4BE9-44EC-8DD4-E114DE4425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682-6869-491F-AEBB-534EE49B13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548A-4CC1-450F-AACA-D4635AEC3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DF61-AECF-4A1C-831C-FEDF3AB022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1F61-F247-432C-A3A8-09C38476E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FB07-1772-4A11-A56A-826E1D948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79050-A25C-4298-8B6E-7716CE6EC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44C0-B803-40C2-A7E3-4BFC1AB1C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9086-B0CB-4EAD-A4B8-64B60EC350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30A0-D1ED-46EF-8091-54AD821752DC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6.</a:t>
            </a:r>
            <a:fld id="{67D79860-C227-486F-88EC-30A40F652D74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5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60240" cy="8780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rcRect l="0" t="0" r="0" b="26142"/>
          <a:stretch/>
        </p:blipFill>
        <p:spPr>
          <a:xfrm>
            <a:off x="8528040" y="6053040"/>
            <a:ext cx="615960" cy="6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73EE-3392-43D5-B222-FB94FF359C3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87600" y="5726160"/>
            <a:ext cx="42512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 5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 Silberschatz, Korth and Sudarshan, 2005 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0" lang="en-US" sz="1200" spc="-1" strike="noStrike" u="sng">
                <a:solidFill>
                  <a:srgbClr val="cc3300"/>
                </a:solidFill>
                <a:uFillTx/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58720" cy="743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rcRect l="0" t="0" r="0" b="26142"/>
          <a:stretch/>
        </p:blipFill>
        <p:spPr>
          <a:xfrm>
            <a:off x="8528040" y="6053040"/>
            <a:ext cx="615960" cy="614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788"/>
              </a:spcBef>
              <a:buClr>
                <a:srgbClr val="ff99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6 : Concurrency Control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762440"/>
            <a:ext cx="64008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ion: Oct 5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-7632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Two-Phase Locking Protoco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can be conflict serializable schedules that cannot be obtained if two-phase locking is us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in the absence of extra information (e.g., ordering of  access to data), two-phase locking is needed for conflict serializability in the following sen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does not follow two-phase locking, we can find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uses two-phase locking, and a schedul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s not conflict serializ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 Convers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phase locking with lock conver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–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Phase: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cquire a lock-S 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cquire a lock-X 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nvert a lock-S to a lock-X (upgr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–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lease a lock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lease a lock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nvert a lock-X to a lock-S  (downgr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tocol assures serializability. But still relies on the programmer to insert the various  locking 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utomatic Acquisition of Loc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52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the standard read/write instruction, without explicit locking c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era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process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beg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 wait until no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h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k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utomatic Acquisition of Lock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rocess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 wait until no other trans. has any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gr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locks are released after commit or ab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mplementation of Lock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5120" y="107928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lock manag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implemented as a separate process to which transactions send lock and unlock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manager replies to a lock request by sending a lock grant messages (or a message asking the transaction to roll back, in case of  a dead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questing transaction waits until its request is answ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manager maintains a data-structure called 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ock t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cord granted locks and pending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table is usually implemented as an in-memory hash table indexed on the name of the data item being 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 Tab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10160" y="1079640"/>
            <a:ext cx="41911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 rectangles indicate granted locks, white ones indicate waiting req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 table also records the type of lock granted or requ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request is added to the end of the queue of requests for the data item, and granted if it is compatible with all earlier 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ock requests result in the request being deleted, and later requests are checked to see if they can now be gra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nsaction aborts, all waiting or granted requests of the transaction are dele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 manager may keep a list of locks held by each transaction, to implement this effici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9556" t="1343" r="20767" b="2419"/>
          <a:stretch/>
        </p:blipFill>
        <p:spPr>
          <a:xfrm>
            <a:off x="825480" y="1079640"/>
            <a:ext cx="3543480" cy="428616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grpSp>
        <p:nvGrpSpPr>
          <p:cNvPr id="122" name=""/>
          <p:cNvGrpSpPr/>
          <p:nvPr/>
        </p:nvGrpSpPr>
        <p:grpSpPr>
          <a:xfrm>
            <a:off x="3022560" y="4606920"/>
            <a:ext cx="1331640" cy="730800"/>
            <a:chOff x="3022560" y="4606920"/>
            <a:chExt cx="1331640" cy="730800"/>
          </a:xfrm>
        </p:grpSpPr>
        <p:sp>
          <p:nvSpPr>
            <p:cNvPr id="123" name=""/>
            <p:cNvSpPr/>
            <p:nvPr/>
          </p:nvSpPr>
          <p:spPr>
            <a:xfrm>
              <a:off x="3022560" y="5092560"/>
              <a:ext cx="1778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22560" y="4762440"/>
              <a:ext cx="1778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41960" y="46069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an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01280" y="5000400"/>
              <a:ext cx="85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Graph-Based Protoco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-based protocols are an alternative to two-phase 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se a partial order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s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,...,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of all data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 any transaction accessing 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access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fore access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es that the s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now be viewed as a directed acyclic graph, called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base 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ee-protoc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imple kind of graph protoc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52600" y="-7632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ee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5120" y="4308120"/>
            <a:ext cx="7661160" cy="20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exclusive locks are allow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lock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on any data item. Subsequently, a dat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y if the paren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urrently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tems may be unlocked at any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ata item that has been locked and un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annot subsequently be re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6282" t="3102" r="16282" b="2328"/>
          <a:stretch/>
        </p:blipFill>
        <p:spPr>
          <a:xfrm>
            <a:off x="2908440" y="1079640"/>
            <a:ext cx="2815920" cy="29620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Graph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ee protocol ensures conflict serializability as well as freedom from dead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ing may occur earlier in the tree-locking protocol than in the two-phase locking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er waiting times, and increase in con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is deadlock-free, no rollbacks ar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does not guarantee recoverability or cascade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introduce commit dependencies to ensure recover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may have to lock data items that they do not ac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locking overhead, and additional wait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decrease in con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s not possible under two-phase locking are possible under tree protocol, and vice ver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ple Granular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 data items to be of various sizes and define a hierarchy of data granularities, where the small granularities are nested within larger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represented graphically as a tree (but don't confuse with tree-locking protoc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transaction locks a node in the tre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lici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lici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cks all the node's descendents in the same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Granularity of 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evel in tree where locking is don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ine granula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ower in tree): high concurrency, high locking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oarse granularit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igher in tree): low locking overhead, low con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6: Concurrency Contr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-Based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-Based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-Based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Gran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ersion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nd Delet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 in Index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Granularity Hierarch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5480" y="15490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vels, starting from the coarsest (top) level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1500" t="15999" r="1286" b="16573"/>
          <a:stretch/>
        </p:blipFill>
        <p:spPr>
          <a:xfrm>
            <a:off x="1511280" y="1206360"/>
            <a:ext cx="5761080" cy="299736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tention Lock Mod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S and X lock modes, there are three additional lock modes with multiple granular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ntion-sha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S): indicates explicit locking at a lower level of the tree but only with shared 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n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lu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X): indicates explicit locking at a lower level with exclusive or shared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ared and inten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lu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IX): the subtree rooted by that node is locked explicitly in shared mode and explicit locking is being done at a lower level with exclusive-mode 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tion locks allow a higher level node to be locked in S or X mode without having to check all descendent no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880" y="22824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mpatibility Matrix with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Intention Lock Mod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atibility matrix for all lock modes 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31040" y="1866960"/>
            <a:ext cx="4622040" cy="3809880"/>
            <a:chOff x="1931040" y="1866960"/>
            <a:chExt cx="4622040" cy="3809880"/>
          </a:xfrm>
        </p:grpSpPr>
        <p:sp>
          <p:nvSpPr>
            <p:cNvPr id="144" name=""/>
            <p:cNvSpPr/>
            <p:nvPr/>
          </p:nvSpPr>
          <p:spPr>
            <a:xfrm>
              <a:off x="2666880" y="1866960"/>
              <a:ext cx="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29000" y="1919160"/>
              <a:ext cx="0" cy="37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90760" y="1942920"/>
              <a:ext cx="0" cy="37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52880" y="1942920"/>
              <a:ext cx="0" cy="37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90960" y="1942920"/>
              <a:ext cx="0" cy="37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53080" y="1942920"/>
              <a:ext cx="0" cy="37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81080" y="2323800"/>
              <a:ext cx="45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57320" y="2933640"/>
              <a:ext cx="45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81080" y="3543120"/>
              <a:ext cx="45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81080" y="4228920"/>
              <a:ext cx="45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1080" y="4914720"/>
              <a:ext cx="45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81080" y="5676840"/>
              <a:ext cx="45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05120" y="199692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82720" y="196848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76880" y="19587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31000" y="1954080"/>
              <a:ext cx="65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 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68720" y="197316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52440" y="244944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14280" y="301608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35160" y="36543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31040" y="4354200"/>
              <a:ext cx="65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 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8840" y="511632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99720" y="2412720"/>
              <a:ext cx="39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72720" y="3058920"/>
              <a:ext cx="39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72720" y="3744720"/>
              <a:ext cx="39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15560" y="4430520"/>
              <a:ext cx="39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89280" y="5159160"/>
              <a:ext cx="3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1360" y="2449440"/>
              <a:ext cx="39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96960" y="2449440"/>
              <a:ext cx="39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35040" y="2449440"/>
              <a:ext cx="39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77680" y="3058920"/>
              <a:ext cx="39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39800" y="3744720"/>
              <a:ext cx="39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1880" y="3703320"/>
              <a:ext cx="3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81640" y="4430520"/>
              <a:ext cx="3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81640" y="5116320"/>
              <a:ext cx="3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43400" y="5116320"/>
              <a:ext cx="3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53040" y="5116320"/>
              <a:ext cx="3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6160" y="5116320"/>
              <a:ext cx="3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89680" y="4430520"/>
              <a:ext cx="3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43400" y="4430520"/>
              <a:ext cx="3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81840" y="4430520"/>
              <a:ext cx="3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61040" y="3058920"/>
              <a:ext cx="3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81840" y="3058920"/>
              <a:ext cx="3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96160" y="2449440"/>
              <a:ext cx="3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67720" y="2982600"/>
              <a:ext cx="3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96160" y="3668400"/>
              <a:ext cx="3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81840" y="3668400"/>
              <a:ext cx="3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ple Granularity Locking Schem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5480" y="1079280"/>
            <a:ext cx="8013600" cy="50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lock 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ing the following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compatibility matrix must be ob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ot of the tree must be locked first, and may be locked in any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 or IS mode only if the paren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urrently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either IX or IS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X, SIX, or IX mode only if the paren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urrently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either IX or SIX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lock a node only if it has not previously unlocked any node (that i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wo-pha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nlock 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y if none of the childre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urrently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that locks are acquired in root-to-leaf order, whereas they are released in leaf-to-root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Handl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5120" y="107928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following two trans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  writ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 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                     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with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36576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32767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3276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0160" y="321156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22880" y="32162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61040" y="3821040"/>
            <a:ext cx="153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000" y="4359240"/>
            <a:ext cx="242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34320" y="3314880"/>
            <a:ext cx="0" cy="26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59960" y="529272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Handl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34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s deadlocked if there is a set of transactions such that every transaction in the set is waiting for another transaction in the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Deadlock pre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tocols ensure that the system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er into a deadlock state. Some prevention strategi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 that each transaction locks all its data items before it begins execution (predeclara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se partial ordering of all data items and require that a transaction can lock data items only in the order specified by the partial order (graph-based protoco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re Deadlock Prevention Strateg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schemes use transaction timestamps for the sake of deadlock prevention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ait-d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 — non-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 transaction may wait for younger one to release data item. Younger transactions never wait for older ones; they are rolled back inst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may die several times before acquiring needed data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ound-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 — 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u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orces rollback) of younger transaction instead of waiting for it. Younger transactions may wait for older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fewer rollbacks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ait-d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preven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ait-d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und-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s, a rolled back transactions is restarted with its original timestamp. Older transactions thus have precedence over newer ones, and starvation is hence avoi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imeout-Based Sche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waits for a lock only for a specified amount of time. After that, the wait times out and the transaction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deadlocks are not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implement; but starvation is possible. Also difficult to determine good value of the timeout inter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Dete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s can be described as a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wait-fo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consists of a pai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t of vertices (all the transactions in the 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t of edges; each element is an ordered pai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re is a directed edge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mplying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waiting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lease a data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s a data item currently being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 ed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serted in the wait-for graph. This edge is removed only 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 longer holding a data item need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is in a deadlock state if and only if the wait-for graph has a cycle.  Must invoke a deadlock-detection algorithm periodically to look for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52600" y="-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Detec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77760" y="1481040"/>
            <a:ext cx="3759480" cy="29512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902880" y="4673520"/>
            <a:ext cx="35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-for graph without a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78680" y="4640400"/>
            <a:ext cx="31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-for graph with a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rcRect l="11186" t="3802" r="10526" b="3509"/>
          <a:stretch/>
        </p:blipFill>
        <p:spPr>
          <a:xfrm>
            <a:off x="5308560" y="1549440"/>
            <a:ext cx="3289320" cy="292104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-Based Protoco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5120" y="1079640"/>
            <a:ext cx="8115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ck is a mechanism to control concurrent access to a data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tems can be locked in two mod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exclusiv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X)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ta item can be both read as well a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. X-lock is requested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shar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S)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ta item can only be read. S-lock is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ed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k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requests are made to concurrency-control manager. Transaction can proceed only after request is gra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Recov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eadlock is  detecte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transaction will have to rolled back (made a victim) to break deadlock.  Select that transaction as victim that will incur minimum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back -- determine how far to roll back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otal roll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bort the transaction and then restar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to roll back transaction only as far as necessary to break dead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vation happens if same transaction is always chosen as victim. Include the number of rollbacks in the cost factor to avoid sta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Approaches to Concurrency Contr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imestamp-Based Protoco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83628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ransaction is issued a timestamp when it enters the system. If an old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time-stamp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 new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ssigned time-stamp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uch that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tocol manages concurrent execution such that the time-stamps determine the serializability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rder to assure such behavior, the protocol maintains for each dat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timestamp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-time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the largest time-stamp of any transaction that execu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uccessfu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-time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the largest time-stamp of any transaction that execu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uccessfu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52600" y="3139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imestamp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5120" y="1079640"/>
            <a:ext cx="766116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stamp ordering protocol ensures that any conflict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s are executed in timestamp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a transactio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eds to read a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that was already over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rejected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executed, and 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set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imestamp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61520" cy="37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th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roducing was needed previously, and the system assumed that that value would never be produc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rejected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W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ttempting to write an obsolet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rejected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executed, and W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set to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Use of the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rtial schedule for several data items for transaction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s 1, 2, 3, 4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20574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20574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52960" y="20764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76880" y="20764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62640" y="209556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91520" y="209556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5120" y="24382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76640" y="19922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62400" y="199692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6480" y="200016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35800" y="200016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35880" y="200016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46040" y="254484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84600" y="23734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0720" y="276228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75280" y="30067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74920" y="3273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61920" y="352116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7760" y="3753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68640" y="403560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r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04760" y="41878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79600" y="44006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92640" y="4645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r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81720" y="4838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81360" y="516240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rrectness of Timestamp-Ordering Protocol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868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stamp-ordering protocol guarantees serializability since all the arcs in the precedence graph are of the 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re will be no cycles in the precedenc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 protocol ensures freedom from deadlock as no transaction ever wait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 schedule may not be cascade-free, and may  not even be recov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33440" y="1752480"/>
            <a:ext cx="175284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81760" y="1752480"/>
            <a:ext cx="175248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15680" y="2130480"/>
            <a:ext cx="13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sma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4360" y="2131920"/>
            <a:ext cx="12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lar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86280" y="26668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coverability and Cascade Freedo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8138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with timestamp-ordering protoc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orts, b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read a data item written by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abort;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been allowed to commit earlier, the schedule is not recov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ther, any transaction that has read a data item written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ab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lead to cascading rollback --- that is, a chain of rollba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is structured such that its writes are all performed at the end of its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writes of a transaction form an atomic action; no transaction may execute while a transaction is being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that aborts is restarted with a new time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2: Limited form of locking: wait for data to be committed before read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3: Use commit dependencies to ensure recov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omas’ Write Ru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version of the timestamp-ordering protocol in which obsole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s may be ignored under certain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empts to write data i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ttempting to write an obsolete value of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than rolling bac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e timestamp ordering protocol would have done, this {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operation can be ign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this protocol is the same as the timestamp ordering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mas' Write Rule allows greater potential concurr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some view-serializable schedules that are not conflict-serializ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alidation-Based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988400" cy="52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of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done in three ph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Read and execution 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rites only to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ry local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Validation 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forms a ``validation test'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termine if local variables can be written without violating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iz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Write 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validated, the updates are applied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; otherwise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ree phases of concurrently executing transactions can be    interleaved, but each transaction must go through the three phases in that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for simplicity that the validation and write phase occur together, atomically and seri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only one transaction executes validation/write at a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called as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optimistic concurrency contr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ce transaction executes fully in the hope that all will go well during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Lock-compatibility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may be granted a lock on an item if the requested lock is compatible with locks already held on the item by other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number of transactions can hold shared locks on an ite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f any transaction holds an exclusive on the item no other transaction may hold any lock on the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ock cannot be granted, the requesting transaction is made to wait till all incompatible locks held by other transactions have been released.  The lock is then gra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4997" t="20003" r="6251" b="21665"/>
          <a:stretch/>
        </p:blipFill>
        <p:spPr>
          <a:xfrm>
            <a:off x="3200400" y="1689120"/>
            <a:ext cx="2097000" cy="10335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alidation-Based Protoco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ransactio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3 timest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: the time whe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rted its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 the time whe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ered its valid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: the time whe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nished its write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izability order is determined by timestamp given at validation time,  to increase concurr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TS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given the value of Validation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tocol is useful and gives greater degree of concurrency if probability of conflicts is l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 serializability order is not pre-decided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few transactions will have to be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alidation Test for Transaction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T</a:t>
            </a:r>
            <a:r>
              <a:rPr b="1" i="1" lang="en-US" sz="3200" spc="-1" strike="noStrike" baseline="-25000">
                <a:solidFill>
                  <a:srgbClr val="cc3300"/>
                </a:solidFill>
                <a:latin typeface="Arial"/>
              </a:rPr>
              <a:t>j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8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or a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T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T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either one of the following condition ho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data items written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not intersect with the set of data items rea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validation succeed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committed.  Otherwise, validation fail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bo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ustif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Either the first condition is satisfied, and there is no overlapped execution, or the second condition is satisfied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it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affect read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ce they occur af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finished its r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it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 not affect read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read  any item written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Produced by Valid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schedule produced using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236232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67080" y="198108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30880" y="1916280"/>
            <a:ext cx="50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45480" y="1920960"/>
            <a:ext cx="50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22800" y="237348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36960" y="2587680"/>
            <a:ext cx="124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B-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A+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9320" y="3714840"/>
            <a:ext cx="178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i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03680" y="4572000"/>
            <a:ext cx="122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i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version Schem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ersion schemes keep old versions of data item to increase concurr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ersion Timestamp 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ersion Two-Phase 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uccessfu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ults in the creation of a new version of the data item 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imestamps to label ver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peration is issued, select an appropriate vers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timestamp of the transaction, and return the value of the selected ver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never have to wait as an appropriate version is returned immedi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version Timestamp Order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data i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sequence of versions 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...., 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. Each vers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s three data fie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the value of vers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-time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-- timestamp of the transaction that created (wrote) version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-time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-- largest timestamp of a transaction that successfully read version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a new vers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s W-timestamp and R-timestamp are initialized to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timestamp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pdated whenever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d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gt; 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version Timestamp Ordering (Cont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8688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peration.  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note the vers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se write timestamp is the largest write timestamp less than or equal to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spcBef>
                <a:spcPts val="788"/>
              </a:spcBef>
              <a:buClr>
                <a:srgbClr val="ff99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the value returned is the       content of version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spcBef>
                <a:spcPts val="788"/>
              </a:spcBef>
              <a:buClr>
                <a:srgbClr val="ff99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1880" indent="-31212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1880" indent="-31212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 content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over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1880" indent="-31212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a new vers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always succ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rite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ejected if some other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(in the serialization order defined by the timestamp values) should rea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s write, has already read a version created by a transaction older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guarantees serializ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version Two-Phase Lock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iates between read-only transactions and updat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Update transa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quire read and write locks, and hold all locks up to the end of the transaction. That is, update transactions follow rigorous two-phase loc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uccessfu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ults in the creation of a new version of the data item 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version of a data item has a single timestamp whose value is obtained from a coun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s incremented during commit proce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Read-only transa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assigned a timestamp by reading the current value of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fore they start execution; they follow the multiversion timestamp-ordering protocol for performing r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version Two-Phase Lock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n update transaction wants to read a data i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obtains a shared lock on it, and reads the latest ver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t wants to write a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obtains X lock on; it then creates a new version of the item and sets this version's timestamp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update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etes, commit processing occu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ts timestamp on the versions it has created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rement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-only transactions that start af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remen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see the values updat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-only transactions that start befo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rements th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see the value before the updates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serializable schedules are produ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VCC: Implementation Iss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multiple versions increases storage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 space in each tuple for storing vers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can, however, be garbage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if Q has two versions Q5 and Q9, and the oldest active transaction has timestamp &gt; 9, than Q5 will never be required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sert and Delete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wo-phase locking is use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may be performed only if the transaction deleting the tuple has an exclusive lock on the tuple to be de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that inserts a new tuple into the database is given an X-mode lock on the tu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s and deletions can lead to 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hantom phenomen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that scans a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find sum of balances of all accounts in Perryrid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 transaction that inserts a tuple in the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insert a new account at Perryrid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ceptually) conflict in spite of not accessing any tuple in 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nly tuple locks are used, non-serializable schedules can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the scan transaction does not see the new account, but reads some other tuple written by the updat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5120" y="1079640"/>
            <a:ext cx="8115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 transaction performing lo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k-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oc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oc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+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ing as above is not sufficient to guarantee serializability —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t updated in-between the read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displayed sum would be wr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ocking protoc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t of rules followed by all transactions while requesting and releasing locks. Locking protocols restrict the set of possible sche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sert  and Delete Operation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5480" y="1079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action scanning the relation is reading  information that indicates what tuples the relation contains, while a transaction inserting a tuple updates the sam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formation should be lock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olu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 a data item with the relation, to represent the information about what tuples the relation cont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scanning the relation acquire a shared lock in the data ite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inserting or deleting a tuple acquire an exclusive lock on the data item. (Note: locks on the data item do not conflict with locks on individual tuple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protocol provides very low concurrency for insertions/dele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locking protocols provide higher concurrency whi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ng the phantom phenomenon, by requiring lock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certain index bucke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ex Locking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809316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locking protoc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relation must have at least one inde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can access tuples only after finding them through one or more indices on the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performs a lookup must lock all the index leaf nodes that it accesses, in S-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if the leaf node does not contain any tuple satisfying the index lookup (e.g. for a range query, no tuple in a leaf is in the r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nserts, updates or deletes a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update all indic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obtain exclusive locks on all index leaf nodes affected by the insert/update/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les of the two-phase locking protocol must be ob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rantees that phantom phenomenon won’t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eak Levels of Consistenc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egree-two consistency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s from two-phase locking in that S-locks may be released at any time, and locks may be acquired at any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locks must be held till end of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izability is not guaranteed, programmer must ensure that no erroneous database state will occu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ursor st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ads, each tuple is locked, read, and lock is immediately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locks are held till end of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case of degree-two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eak Levels of Consistency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allows non-serializable exec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erializ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Repeatable 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llows only committed records to be read, and repeating a read should return the same value (so read locks should be retain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 phantom phenomenon need not be prev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 may see some records inserted by T2, but may not see others inserted by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Read commit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same as degree two consistency, but most systems implement it as cursor-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Read uncommit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llows even uncommitted data to be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any database systems, read committed is the default consistenc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o be explicitly changed to serializable when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isolation level serializ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currency in Index Struc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es are unlike other database items in that their only job is to help in ac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-structures are typically accessed very often, much more than other database ite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ing index-structures like other database items, e.g. by 2-phase locking of index nodes can lead to low concurrency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several index concurrency protocols where locks on internal nodes are released early, and not in a two-phase fash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cceptable to have nonserializable concurrent access to an index as long as the accuracy of the index is mainta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articular, the exact values read in an internal node of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are irrelevant so long as we land up in the correct leaf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currency in Index Structur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of index concurrency protoc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crabb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stead of two-phase locking on the nodes of the B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tree, as follows.  During search/insertion/dele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lock the root node in shared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locking all required children of a node in shared mode, release the lock on the n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ing insertion/deletion, upgrade leaf node locks to exclusive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splitting or coalescing requires changes to a parent, lock the parent in exclusive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ve protocol can cause excessive dead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es coming down the tree deadlock with updates going up the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abort and restart search, without affecting 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ter protocols are available; see Section 16.9 for one such protocol, the B-link tree 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uition: release lock on parent before acquiring lock on 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deal with changes that may have happened between lock release and acqu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xt-Key Lock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-locking protocol to prevent phantoms required locking entire le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sult in poor concurrency if there are many ins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: for an index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all values that satisfy index lookup (match lookup value, or fall in lookup r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lock next key value in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mode: S for lookups, X for insert/delete/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s that range queries will conflict with inserts/deletes/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ardless of which happens first, as long as both are con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ra Slid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napshot Isolation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12800" y="1093680"/>
            <a:ext cx="776304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vation: Decision support queries that read large amounts of data have concurrency conflicts with OLTP transactions that update a few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performanc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1:  Give logical “snapshot” of database state to read only transactions, read-write transactions use normal 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ersion 2-phase 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 well, but how does system know a transaction is read on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2: Give snapshot of database state to every transaction, updates alone use 2-phase locking to guard against concurrent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variety of anomalies such as lost update can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 solution: snapshot isolation level (next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by Berenson et al, SIGMOD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ts implemented in many database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Oracle, PostgreSQL, SQL Server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napshot Isol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4960" y="1093680"/>
            <a:ext cx="454176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ransaction T1 executing with Snapsho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s snapshot of committed data at 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ways reads/modifies data in its own snapsh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s of concurrent transactions are not visible to T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s of T1 complete when it com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-committer-wins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s only if no other concurrent transaction has already written data that T1 intends to wr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537160" y="1144440"/>
          <a:ext cx="3289320" cy="4842000"/>
        </p:xfrm>
        <a:graphic>
          <a:graphicData uri="http://schemas.openxmlformats.org/drawingml/2006/table">
            <a:tbl>
              <a:tblPr/>
              <a:tblGrid>
                <a:gridCol w="1095480"/>
                <a:gridCol w="1252440"/>
                <a:gridCol w="941400"/>
              </a:tblGrid>
              <a:tr h="3895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(Y :=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(X)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(Y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(X:=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(Z:=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(Z)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(Y)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(X:=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-R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2047680" y="5165640"/>
            <a:ext cx="3364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Concurrent updates not vi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Own updates are vi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t first-committer of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erialization error, T2 is rolled 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5359320" y="4533480"/>
            <a:ext cx="129564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359320" y="4813200"/>
            <a:ext cx="1308240" cy="74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359320" y="5143680"/>
            <a:ext cx="129564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72280" y="5842080"/>
            <a:ext cx="12952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itfalls of Lock-Based Protoco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5480" y="1079280"/>
            <a:ext cx="78487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partial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th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make progress — executing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u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wait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lease its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le executing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u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wait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lease its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a situation is called 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ead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andle a deadlock on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rolled bac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ts locks relea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14132" t="2901" r="13043" b="1448"/>
          <a:stretch/>
        </p:blipFill>
        <p:spPr>
          <a:xfrm>
            <a:off x="3252960" y="1574640"/>
            <a:ext cx="2665080" cy="26258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enefits of S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v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lso doesn’t block other txn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similar to Read Com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the usual anoma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ty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os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on-repeatable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ate based selects are repeatable (no phan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with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does not always give serializable exec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izable: among two concurrent txns, one sees the effects of the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I: neither sees the effects of the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: Integrity constraints can be vio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napshot Isol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of problem with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: x: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: y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ly x = 3 and y =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execution:  x = ??, y =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both transactions start at the same time, with snapshot isolation:  x = ?? , y =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kew 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w also occurs with ins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ax order number among all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order with order number = previous ma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napshot Isolation Anomal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breaks serializability when txns modif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s, each based on a previous state of the item the other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very commin in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. the TPC-C benchmark runs correctly under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xns conflict due to modifying different data, there is usually also a shared item they both modify too (like a total quantity) so SI will abort one of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oes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evelopers should be careful about write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an also cause a read-only transaction anomaly, where read-only transaction may see an inconsistent state even if updaters are serializ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omit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 In Oracle and Postgre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4960" y="1093320"/>
            <a:ext cx="82072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a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I used when isolation level is set to serializable, by Oracle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greSQL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greSQL’s implementation of SI described in Section 26.4.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 implements “first updater wins” rule (variant of “first committer wins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writer check is done at time of write, not at commi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ransactions to be rolled back ear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ther supports true serializable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idestep for specific queries by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.. for upd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racle and Postgre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s the data which is read, preventing concurrent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derno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der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r up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value into local variable max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orders (maxorder+1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 to Alan Fekete and Sudhir Jorwekar for Snapshot Isolation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06040" y="23148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napshot Read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081080" y="1449360"/>
            <a:ext cx="7661160" cy="4903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093680" y="865080"/>
            <a:ext cx="76615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urrent updates invisible to snapshot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napshot Write: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First Committer Wi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80720" y="5322600"/>
            <a:ext cx="766116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nt: “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First-updater-wi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for concurrent updates when write occ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racle uses this plus some extra featur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s only in when abort occurs, otherwise equival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300320" y="1062000"/>
            <a:ext cx="690696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4520" y="24408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I Non-Serializability even for Read-Only Transaction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727200" y="795240"/>
            <a:ext cx="6038640" cy="19908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1830240" y="2779560"/>
            <a:ext cx="59914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7280" y="46980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artial Schedule Under Two-Phase Lock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11888" t="2069" r="12144" b="1378"/>
          <a:stretch/>
        </p:blipFill>
        <p:spPr>
          <a:xfrm>
            <a:off x="2489040" y="1397160"/>
            <a:ext cx="4343400" cy="41400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3468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complete Schedule With a Lock Conversion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rcRect l="17243" t="2586" r="17889" b="2874"/>
          <a:stretch/>
        </p:blipFill>
        <p:spPr>
          <a:xfrm>
            <a:off x="3111480" y="1255680"/>
            <a:ext cx="3475080" cy="37990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itfalls of Lock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5120" y="107928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tential for deadlock exists in most locking protocols. Deadlocks are a necessary ev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tarv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lso possible if concurrency control manager is badly designed.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may be waiting for an X-lock on an item, while a sequence of other transactions request and are granted an S-lock on the same ite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transaction is repeatedly rolled back due to dead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 control manager can be designed to prevent star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ee-Structured Database Graph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rcRect l="16613" t="2153" r="16846" b="1540"/>
          <a:stretch/>
        </p:blipFill>
        <p:spPr>
          <a:xfrm>
            <a:off x="2451240" y="960480"/>
            <a:ext cx="4462200" cy="484344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erializable Schedule Under the Tree Protocol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7626" t="1015" r="7626" b="1356"/>
          <a:stretch/>
        </p:blipFill>
        <p:spPr>
          <a:xfrm>
            <a:off x="2108160" y="1438200"/>
            <a:ext cx="4907160" cy="423864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rcRect l="7846" t="1540" r="9001" b="2153"/>
          <a:stretch/>
        </p:blipFill>
        <p:spPr>
          <a:xfrm>
            <a:off x="2273400" y="1155600"/>
            <a:ext cx="4576680" cy="397512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rcRect l="1818" t="17273" r="3862" b="17273"/>
          <a:stretch/>
        </p:blipFill>
        <p:spPr>
          <a:xfrm>
            <a:off x="2832120" y="1612800"/>
            <a:ext cx="3797280" cy="19764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chedule 5, A Schedule Produced by Using Validation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15261" t="2415" r="17072" b="2069"/>
          <a:stretch/>
        </p:blipFill>
        <p:spPr>
          <a:xfrm>
            <a:off x="2603520" y="1214280"/>
            <a:ext cx="3830760" cy="405612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atibility Matrix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rcRect l="1112" t="22225" r="1555" b="22518"/>
          <a:stretch/>
        </p:blipFill>
        <p:spPr>
          <a:xfrm>
            <a:off x="2031840" y="1517760"/>
            <a:ext cx="5562720" cy="236844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onserializable Schedule with Degree-Two Consistency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rcRect l="19524" t="2739" r="19934" b="2192"/>
          <a:stretch/>
        </p:blipFill>
        <p:spPr>
          <a:xfrm>
            <a:off x="2959200" y="1168560"/>
            <a:ext cx="3741480" cy="440676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For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account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File with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= 3.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rcRect l="1283" t="32196" r="853" b="32196"/>
          <a:stretch/>
        </p:blipFill>
        <p:spPr>
          <a:xfrm>
            <a:off x="495360" y="1752480"/>
            <a:ext cx="8004240" cy="2184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65240"/>
            <a:ext cx="807732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nsertion of “Clearview” Into the B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-Tree of Figure 16.21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rcRect l="1365" t="32209" r="781" b="31951"/>
          <a:stretch/>
        </p:blipFill>
        <p:spPr>
          <a:xfrm>
            <a:off x="660240" y="1943280"/>
            <a:ext cx="7535880" cy="20700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-Compatibility Matrix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rcRect l="2418" t="19031" r="3143" b="19031"/>
          <a:stretch/>
        </p:blipFill>
        <p:spPr>
          <a:xfrm>
            <a:off x="2311560" y="1612800"/>
            <a:ext cx="4957560" cy="243864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Two-Phase Locking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rotocol which ensures conflict-serializable sche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1: Growing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obtain lo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not release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2: Shrinking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release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not obtain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tocol assures serializability. It can be proved that the transactions can be serialized in the order of their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ock point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.e. the point where a transaction acquired its final lock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Two-Phase Locking Protoco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5120" y="1079640"/>
            <a:ext cx="766116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phase lock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es 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sure freedom from dead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ing roll-back is possible under two-phase locking. To avoid this, follow a modified protocol called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trict two-phase 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Here a transaction must hold all its exclusive locks till it commits/ab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Rigorous two-phase 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ven stricter: 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s are held till commit/abort. In this protocol transactions can be serialized in the order in which they comm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10:42:39Z</dcterms:created>
  <dc:creator>nandu</dc:creator>
  <dc:description/>
  <dc:language>en-US</dc:language>
  <cp:lastModifiedBy>S. Sudarshan</cp:lastModifiedBy>
  <dcterms:modified xsi:type="dcterms:W3CDTF">2006-10-05T14:47:26Z</dcterms:modified>
  <cp:revision>213</cp:revision>
  <dc:subject/>
  <dc:title>Chapter 14: Concurrency Control</dc:title>
</cp:coreProperties>
</file>